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C86-6375-41A0-A44E-BC475B7D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5A4-D6D3-440E-B037-26883D2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E38-9D10-428A-8BD5-6DABD43D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6E0-B3C9-4A89-BA0B-8A90FD9C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B64-4DFB-4EC9-81AB-AE275611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27A3-7CB3-46C8-910A-5A0697A1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6B98-CF99-4898-9480-B2C15791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B3B4-9E50-4B17-AB55-66320C96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8A5-7D94-4AE4-9CCC-E7BB6F4E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A6EB-84C1-4C0B-AC8B-14F015E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8FC1-B2FF-4E9D-B8F3-4B4A53B5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7AC-8EB4-4DB3-B078-ECDCDAE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509F-8746-47C2-89AF-89D7939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D868-E2F9-45E5-B102-943A474E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117C-DC88-4D55-9C62-DED5D5EF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2436-9BBB-4D59-B3A0-5AE1E1D3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3888-94A6-4F4E-AE9D-150AAD82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2ABF-C494-4D00-9B45-07DAD6E5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0175-64AB-4399-A02B-C2B38909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5654-5756-403A-8093-3AA95BAE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3CF0-B34B-463A-BD3F-65A2DE06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9178-7E6C-4642-BCE5-5D656C1C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6C1-4A24-4712-A537-2F76A7DD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44BA-84C1-453A-971E-08355F3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9FA6-3B22-474B-A24B-DBB66A7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B1BF-E8D4-471B-9C16-0DE75C42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6ED2-2C4E-4045-8628-A4A4822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B46B-4799-434C-8333-F36E5351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9E03-2E89-44DD-AC57-8B9D1B8C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F416-2EEE-41A9-A3CA-FD19FE39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6F69-188E-4632-8F91-2753ADFA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D43DC-1DF7-41C1-B3B1-E792D82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C480-A9DA-43F9-9E5E-31F6B418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7F3-3D89-4809-84FE-676DE50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7E3D-9FDC-47C8-94A6-6CF3214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B6EE-E474-49ED-9A11-92965DB7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FD79-48A4-4D68-8A24-06C16283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829C6-8FB6-4319-A97E-B9D9CC8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A895-5713-4ACA-81D2-2C63BFA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BBBE-C431-4F2A-85D1-3A04973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BEB7-4D18-4574-843C-C570690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804B-DBF4-4D8F-B735-06DA1392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ACDA-82A1-4370-8E8B-FE341E2B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852-B2AE-4320-A883-9DBB676E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F2D-A758-418B-9A5D-1802912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73E-A036-48DE-8A0A-19CABCA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FB5-A513-4003-B7EF-A9BC271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680-8AB7-4DFB-B42D-F58BC396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20D-621E-48AE-8AFB-6A4A83336B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52F9-C718-40A5-930B-D6B79521BB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4BB-5366-4A63-80A8-53F5EFA662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3C8D-05ED-4CF2-A9A1-49E89BA090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GdTTCRw1sw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_f-8ISZ164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d700"/>
                </a:solidFill>
                <a:latin typeface="Arial"/>
                <a:ea typeface="Arial"/>
              </a:rPr>
              <a:t>СИНТЕЗА ПРОТЕИНА- ТРАНСЛ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Полирибозо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rcRect l="52500" t="62976" r="0" b="8882"/>
          <a:stretch/>
        </p:blipFill>
        <p:spPr>
          <a:xfrm>
            <a:off x="1600200" y="4267080"/>
            <a:ext cx="5288040" cy="23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rcRect l="52500" t="32646" r="0" b="42226"/>
          <a:stretch/>
        </p:blipFill>
        <p:spPr>
          <a:xfrm>
            <a:off x="1905120" y="1981080"/>
            <a:ext cx="48034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9800" y="29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д, кодон, антикодо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9440" y="1792080"/>
            <a:ext cx="3721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4191120" y="1798560"/>
            <a:ext cx="4680000" cy="400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990720" y="4618080"/>
            <a:ext cx="293976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70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РАНСЛАЦИЈ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превођење информ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190476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. Активација и повезивањ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НК са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инокиселин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 трансл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 полипеп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инација трансл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rcRect l="7038" t="2321" r="0" b="16367"/>
          <a:stretch/>
        </p:blipFill>
        <p:spPr>
          <a:xfrm>
            <a:off x="4813200" y="2432160"/>
            <a:ext cx="433080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Активација и повезивање тРНК са аминокиселин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0120" y="2011320"/>
            <a:ext cx="7943760" cy="43894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866960" y="6211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+Е+АТП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~Е~АМП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+Е~АМП+тРНК-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РНК~Ак+Е+А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s://www.youtube.com/watch?v=1GdTTCRw1sw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32446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784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3886200" y="203040"/>
            <a:ext cx="4235400" cy="6654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6094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3"/>
          <p:cNvGrpSpPr/>
          <p:nvPr/>
        </p:nvGrpSpPr>
        <p:grpSpPr>
          <a:xfrm>
            <a:off x="762120" y="3073320"/>
            <a:ext cx="2590560" cy="2338560"/>
            <a:chOff x="762120" y="3073320"/>
            <a:chExt cx="2590560" cy="2338560"/>
          </a:xfrm>
        </p:grpSpPr>
        <p:pic>
          <p:nvPicPr>
            <p:cNvPr id="212" name="Picture 1" descr=""/>
            <p:cNvPicPr/>
            <p:nvPr/>
          </p:nvPicPr>
          <p:blipFill>
            <a:blip r:embed="rId3"/>
            <a:stretch/>
          </p:blipFill>
          <p:spPr>
            <a:xfrm>
              <a:off x="891000" y="3304080"/>
              <a:ext cx="23648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Oval 2"/>
            <p:cNvSpPr/>
            <p:nvPr/>
          </p:nvSpPr>
          <p:spPr>
            <a:xfrm>
              <a:off x="762120" y="3073320"/>
              <a:ext cx="2590560" cy="233856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 полипепти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5translation"/>
          <p:cNvPicPr/>
          <p:nvPr/>
        </p:nvPicPr>
        <p:blipFill>
          <a:blip r:embed="rId1"/>
          <a:stretch/>
        </p:blipFill>
        <p:spPr>
          <a:xfrm>
            <a:off x="2819520" y="1828800"/>
            <a:ext cx="5029200" cy="484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page9image12762768"/>
          <p:cNvPicPr/>
          <p:nvPr/>
        </p:nvPicPr>
        <p:blipFill>
          <a:blip r:embed="rId2"/>
          <a:stretch/>
        </p:blipFill>
        <p:spPr>
          <a:xfrm>
            <a:off x="291960" y="2971800"/>
            <a:ext cx="2006640" cy="1925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. Термина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трансл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2921040" y="1611360"/>
            <a:ext cx="3556080" cy="52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имација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и </a:t>
            </a:r>
            <a:br>
              <a:rPr sz="5000"/>
            </a:b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40840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8_f-8ISZ16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rcRect l="12500" t="35003" r="18752" b="0"/>
          <a:stretch/>
        </p:blipFill>
        <p:spPr>
          <a:xfrm>
            <a:off x="2286000" y="342900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2-08-25T14:36:03Z</dcterms:modified>
  <cp:revision>184</cp:revision>
  <dc:subject/>
  <dc:title>2-Humani genom</dc:title>
</cp:coreProperties>
</file>